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41.jpeg" ContentType="image/jpeg"/>
  <Override PartName="/ppt/media/image12.wmf" ContentType="image/x-wmf"/>
  <Override PartName="/ppt/media/image9.wmf" ContentType="image/x-wmf"/>
  <Override PartName="/ppt/media/image34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8.wmf" ContentType="image/x-wmf"/>
  <Override PartName="/ppt/media/image37.jpeg" ContentType="image/jpeg"/>
  <Override PartName="/ppt/media/image13.wmf" ContentType="image/x-wmf"/>
  <Override PartName="/ppt/media/image35.jpeg" ContentType="image/jpeg"/>
  <Override PartName="/ppt/media/image33.jpeg" ContentType="image/jpeg"/>
  <Override PartName="/ppt/media/image5.wmf" ContentType="image/x-wmf"/>
  <Override PartName="/ppt/media/image39.jpeg" ContentType="image/jpeg"/>
  <Override PartName="/ppt/media/image4.wmf" ContentType="image/x-wmf"/>
  <Override PartName="/ppt/media/image27.wmf" ContentType="image/x-wmf"/>
  <Override PartName="/ppt/media/image42.png" ContentType="image/png"/>
  <Override PartName="/ppt/media/image25.wmf" ContentType="image/x-wmf"/>
  <Override PartName="/ppt/media/image11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31.jpeg" ContentType="image/jpeg"/>
  <Override PartName="/ppt/media/image10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1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C50A-1B7B-49AC-922D-3831A1C08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1405-6D77-4A2F-AF45-782CE5C69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129A-01C7-4BBF-8F91-D97B87A58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A193-9EB7-4CEA-A12A-3665FB3DD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5967-7CD9-4FE9-B784-AFBEEBDA2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9326-5865-461B-BCD7-F36AC8373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1D57-C075-4203-8877-92855C3D0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8913-37A7-461E-BE95-80D0F2E99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A16C-5764-46DD-AD66-B29889CD2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3837-AB6F-48B7-B338-7780746C4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5DA1-0FD1-46EA-A0DA-3E077C60D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2CF5-D64B-4214-A1C1-D13F1DD90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AF92-EA39-42B5-8AFE-992063B70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3BEC-6ACF-4C12-8C7F-B10DA1450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0276-6522-4D19-86B9-467D9D439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D0AA-EF80-4D2D-B9CD-985B33655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37E9-2D46-47C2-AD7B-DA48B42C4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045B-BD2B-414C-893C-76C17E53D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338-C988-404C-AE79-6CCA82C3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8CD-06FA-49AE-9AC8-2E35819A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A17-0AB5-46BC-B6CA-CBEEC039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2BA-7378-4446-A5F3-2CF69559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1AB5-B5CC-4ECF-8AD8-A3D4BC20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731E-0301-4959-BBF9-99573400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C2BD-455F-4988-942F-9F2D727E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2755-7082-4887-A5DA-521DF120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36B9-499A-486E-9D5D-B719CEFE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DCC2-CE99-43A0-AAF5-16D96045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C6A5-F0D9-4548-863E-61DD0863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B033-4B44-499E-8A50-8049C995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3D36-AE54-4644-B9F0-13989852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0EBC-BF5C-4A7E-AAC4-48BC258A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0664-77AE-40AA-8BEF-83B508BA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4D1C-88CF-4033-8031-21806B97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A1F9-F98A-4530-AB59-D9CCDA8E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481-8DE4-41F2-AE53-9F5338E1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D6F-EE79-4CF2-839C-613F05A2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261-8DCF-44E2-B489-56812BE6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7F5-E990-4F4B-9E88-9F1A2DA0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389-D9FF-405E-A459-C8BC0EF2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F1B-097E-464A-9E4A-048DDF60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1A5-BAE6-41FE-A849-7AB2D624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7ECA-8240-4CE7-B353-A61ABD70E4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05F8-209B-4645-8519-A8CADED11F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508040"/>
            <a:ext cx="82296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202"/>
                </a:solidFill>
                <a:latin typeface="Comic Sans MS"/>
              </a:rPr>
              <a:t>LAB SAFE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95280" y="409248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202"/>
                </a:solidFill>
                <a:latin typeface="Comic Sans MS"/>
              </a:rPr>
              <a:t>Biolog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301920" y="2768760"/>
            <a:ext cx="2540160" cy="1320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954440" y="5715000"/>
            <a:ext cx="48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ttp://www.nclark.net/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OWE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rds where n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can trip on them or ge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 sure your hands and your lab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rea are dry before us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ke anything in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SOCKE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6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1177920" cy="16002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plug cords by pulling the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not the 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plug all electrical equipm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f the lab period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990720" y="152388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bject 6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865160" cy="19047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ELECTRIC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 burners and hotplates cool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wn before touching them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form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IZZ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ES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se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they are cool enoug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tongs and/or protective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handle ho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reach across an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OPEN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lame or bu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ediately flush with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unti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rning sensation i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ts,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ing directly on mino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ts will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STOP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eeding i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w minutes.  Apply c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ess to bruises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uce swel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Do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vide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Comic Sans MS"/>
              </a:rPr>
              <a:t>FRES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ir and hav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son recline so th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ir head is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Comic Sans MS"/>
              </a:rPr>
              <a:t>LOWER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t of their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5410080" y="4572000"/>
            <a:ext cx="1787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ush eyes immediate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plenty of wate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15 MINUT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t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yewash). If a foreig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 is lodged in the eye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allow the eye to b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bb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111240" y="3352680"/>
            <a:ext cx="2636640" cy="28195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out what substanc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was responsible for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poisoning and alert the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TEACHE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ediat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E SAFE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757800" y="4495680"/>
            <a:ext cx="633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youtube.com/watch?v=BLjoWjCrDq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6" descr="fire-engine-mimooh-01"/>
          <p:cNvPicPr/>
          <p:nvPr/>
        </p:nvPicPr>
        <p:blipFill>
          <a:blip r:embed="rId1"/>
          <a:stretch/>
        </p:blipFill>
        <p:spPr>
          <a:xfrm>
            <a:off x="4495680" y="838080"/>
            <a:ext cx="3943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7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es can either be extinguished by smothering the flames with 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blanke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oth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extinguish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use a fire extinguisher properly REMEMBER:   P-A-S-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LL the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 at the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EZE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rig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EP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de to s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880" y="304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RE SAFE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READ &amp; FOLLO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struction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efully before attempting to d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Wea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GOGGL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protect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eyes from chemicals, heate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erials, or things that might b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ble to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ELL TEAC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f any spills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Object 5" descr=""/>
          <p:cNvPicPr/>
          <p:nvPr/>
        </p:nvPicPr>
        <p:blipFill>
          <a:blip r:embed="rId1"/>
          <a:stretch/>
        </p:blipFill>
        <p:spPr>
          <a:xfrm>
            <a:off x="5381640" y="5715000"/>
            <a:ext cx="1400040" cy="800280"/>
          </a:xfrm>
          <a:prstGeom prst="rect">
            <a:avLst/>
          </a:prstGeom>
          <a:ln w="0">
            <a:noFill/>
          </a:ln>
        </p:spPr>
      </p:pic>
      <p:pic>
        <p:nvPicPr>
          <p:cNvPr id="98" name="Object 6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876600" cy="7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ways use the right type of fire extinguisher for each specific type of fi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LHHS extinguishers (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yp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LASS A Fi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es of organic matter that will leave ash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WO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paper, t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LASS B FI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es of flammabl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LIQU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asoline, sol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ater is not a good extinguisher because it spreads the liquid arou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4" descr="co2"/>
          <p:cNvPicPr/>
          <p:nvPr/>
        </p:nvPicPr>
        <p:blipFill>
          <a:blip r:embed="rId1"/>
          <a:stretch/>
        </p:blipFill>
        <p:spPr>
          <a:xfrm>
            <a:off x="6696000" y="1371600"/>
            <a:ext cx="2448000" cy="19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LASS C FI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es of an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ELECTRIC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mputers, photocop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4" descr="http://www.fifthdistrictcourt.com/"/>
          <p:cNvPicPr/>
          <p:nvPr/>
        </p:nvPicPr>
        <p:blipFill>
          <a:blip r:embed="rId1"/>
          <a:stretch/>
        </p:blipFill>
        <p:spPr>
          <a:xfrm>
            <a:off x="5148360" y="4076640"/>
            <a:ext cx="3384360" cy="23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MIS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orkplace Hazardous Materials Information System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e 3 components to the WHMIS system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MS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er Edu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s on all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5" descr="Sample_safety_workplace_clipart"/>
          <p:cNvPicPr/>
          <p:nvPr/>
        </p:nvPicPr>
        <p:blipFill>
          <a:blip r:embed="rId1"/>
          <a:stretch/>
        </p:blipFill>
        <p:spPr>
          <a:xfrm>
            <a:off x="6095880" y="2438280"/>
            <a:ext cx="2874960" cy="3886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SD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erial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SAFE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ata She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ored in binders in lab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known chemic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 section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ame, ingredients, physical data, fire hazards, reactivity data, toxicological properties, preventive measures, first aid measur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306360"/>
            <a:ext cx="777240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MIS Labels – </a:t>
            </a:r>
            <a:br>
              <a:rPr sz="36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ork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zardous Materials Information Syste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ed </a:t>
            </a: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G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. Helium, prop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mmable/Combustible ex: methane gas, acet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idizing Material ex: Chromic Ac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sonous Infectious (</a:t>
            </a: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MMEDI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&amp; Serious Toxic Effects) ex: cyan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sonous Infectious (Other Toxic Effects) ex: mercury, l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hazardous Infectious ex: </a:t>
            </a: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NEED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osive Materials ex: degrea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gerously Reactive ex: pure so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4" descr="whmis_a"/>
          <p:cNvPicPr/>
          <p:nvPr/>
        </p:nvPicPr>
        <p:blipFill>
          <a:blip r:embed="rId1"/>
          <a:stretch/>
        </p:blipFill>
        <p:spPr>
          <a:xfrm>
            <a:off x="8101080" y="981000"/>
            <a:ext cx="753840" cy="733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whmis_b"/>
          <p:cNvPicPr/>
          <p:nvPr/>
        </p:nvPicPr>
        <p:blipFill>
          <a:blip r:embed="rId2"/>
          <a:stretch/>
        </p:blipFill>
        <p:spPr>
          <a:xfrm>
            <a:off x="8101080" y="1773360"/>
            <a:ext cx="755640" cy="741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whmis_c"/>
          <p:cNvPicPr/>
          <p:nvPr/>
        </p:nvPicPr>
        <p:blipFill>
          <a:blip r:embed="rId3"/>
          <a:stretch/>
        </p:blipFill>
        <p:spPr>
          <a:xfrm>
            <a:off x="8101080" y="256536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whmis_d1"/>
          <p:cNvPicPr/>
          <p:nvPr/>
        </p:nvPicPr>
        <p:blipFill>
          <a:blip r:embed="rId4"/>
          <a:stretch/>
        </p:blipFill>
        <p:spPr>
          <a:xfrm>
            <a:off x="8172360" y="3284640"/>
            <a:ext cx="719280" cy="712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whmis_d2"/>
          <p:cNvPicPr/>
          <p:nvPr/>
        </p:nvPicPr>
        <p:blipFill>
          <a:blip r:embed="rId5"/>
          <a:stretch/>
        </p:blipFill>
        <p:spPr>
          <a:xfrm>
            <a:off x="8172360" y="4149720"/>
            <a:ext cx="719280" cy="712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whmis_d3"/>
          <p:cNvPicPr/>
          <p:nvPr/>
        </p:nvPicPr>
        <p:blipFill>
          <a:blip r:embed="rId6"/>
          <a:stretch/>
        </p:blipFill>
        <p:spPr>
          <a:xfrm>
            <a:off x="8229600" y="4952880"/>
            <a:ext cx="704880" cy="692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whmis_e"/>
          <p:cNvPicPr/>
          <p:nvPr/>
        </p:nvPicPr>
        <p:blipFill>
          <a:blip r:embed="rId7"/>
          <a:stretch/>
        </p:blipFill>
        <p:spPr>
          <a:xfrm>
            <a:off x="6781680" y="5410080"/>
            <a:ext cx="685800" cy="681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whmis_f"/>
          <p:cNvPicPr/>
          <p:nvPr/>
        </p:nvPicPr>
        <p:blipFill>
          <a:blip r:embed="rId8"/>
          <a:stretch/>
        </p:blipFill>
        <p:spPr>
          <a:xfrm>
            <a:off x="7467480" y="5943600"/>
            <a:ext cx="720720" cy="7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HPS Symbols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zardous Household Product Symbol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HOUSEHOL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vels of Severity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anger, Warning and Cau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symbols"/>
          <p:cNvPicPr/>
          <p:nvPr/>
        </p:nvPicPr>
        <p:blipFill>
          <a:blip r:embed="rId1"/>
          <a:stretch/>
        </p:blipFill>
        <p:spPr>
          <a:xfrm>
            <a:off x="1763640" y="3573360"/>
            <a:ext cx="547236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ecautions related to Dissection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working with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preserved specime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in a well-ventilated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ar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vinyl glov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 all ti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reduce th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irritating effe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chemical preservatives, rinse specimen under running water to eliminate excess and dilute what re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iew procedure for cuts and punctures from dissecting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cleaning dissecting instruments,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hold sharp edges away from yo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ask the teacher re: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proper dispos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pecimens…special containers for sharps, animal tissue and preservative dispo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n working with bacteriologic specimen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have open wounds or cuts on your hands, cover them with a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bandag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 wear latex glov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Disinf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ab bench tops before and after handling bacterial cult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handling bacteria,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keep your hands away from your eyes, nose, and mouth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oroughly after handling bac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 culture is spilled, cover the spill area with paper towel and flood the paper towels with disinfectant. Wait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20 minu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then wipe up the spill with more paper towels and dispose of the paper towel in a empty ba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handling chemicals, alway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soap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uring lab work, keep your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HANDS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way from your 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e back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7477200" y="2209680"/>
            <a:ext cx="1666800" cy="1235160"/>
          </a:xfrm>
          <a:prstGeom prst="rect">
            <a:avLst/>
          </a:prstGeom>
          <a:ln w="0">
            <a:noFill/>
          </a:ln>
        </p:spPr>
      </p:pic>
      <p:pic>
        <p:nvPicPr>
          <p:cNvPr id="102" name="Object 5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1652760" cy="1676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Roll up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lee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.  Know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fire extinguisher, fire blanket, eyewash station, and first aid k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Keep your work area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UNCLUTTE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Object 4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5" descr=""/>
          <p:cNvPicPr/>
          <p:nvPr/>
        </p:nvPicPr>
        <p:blipFill>
          <a:blip r:embed="rId2"/>
          <a:stretch/>
        </p:blipFill>
        <p:spPr>
          <a:xfrm>
            <a:off x="3352680" y="5143680"/>
            <a:ext cx="2286000" cy="1601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suggested that you wea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AS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her than contact len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ver put anything into your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OUTH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a lab experi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CLE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r lab area at 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 of the laboratory peri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EVER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horse around” or pla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al jokes in the labora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Object 4" descr=""/>
          <p:cNvPicPr/>
          <p:nvPr/>
        </p:nvPicPr>
        <p:blipFill>
          <a:blip r:embed="rId1"/>
          <a:stretch/>
        </p:blipFill>
        <p:spPr>
          <a:xfrm>
            <a:off x="7391520" y="0"/>
            <a:ext cx="1371600" cy="1287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Object 6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98748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ipped or cracked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uld not be used. Show it to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ROKE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lassware should not b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special glass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osa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er for it. Us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ROOM &amp;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USTP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r protective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GLOVE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b apron whenever heating or pouring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IX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chemicals togethe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less the teacher directs you 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25" name="Object 6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941400" cy="12189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need to smell the odor o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F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fum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ward your nose with one hand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not put your nose over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tainer and 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6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llow the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INSTRUCT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teacher when disposing of all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hands after handl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Object 4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20024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ED18</cp:lastModifiedBy>
  <dcterms:modified xsi:type="dcterms:W3CDTF">2011-09-08T19:58:15Z</dcterms:modified>
  <cp:revision>100</cp:revision>
  <dc:subject/>
  <dc:title>Lab Safety</dc:title>
</cp:coreProperties>
</file>